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A34-022A-435C-B5D5-64781877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7CC-C6E1-40C0-8EAE-36F7931A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E45-E7AE-4232-BDFB-FD24C7E8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66A-F18B-4247-87B8-9D1BF6FB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FBC-15AC-4981-B6AE-BB45D194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773-0A45-41AA-97A3-784A3D61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14F-D8A5-4783-BC7E-BDB5C1B5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704-E323-4934-9617-711D1FD1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079-9018-4290-A3AE-1B5A432E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A5C-542E-450B-99D1-7EE00C48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DF6-A633-43BF-8563-B3CCC123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A79-F09B-4D96-8857-6A8843D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A291-C2DA-4DD9-88CA-29D35D5B6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5480" y="401760"/>
            <a:ext cx="11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78000" y="324000"/>
            <a:ext cx="6565680" cy="402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71760" y="806400"/>
            <a:ext cx="4680" cy="3546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4654080" y="809640"/>
            <a:ext cx="1800" cy="3535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89600" y="814320"/>
            <a:ext cx="0" cy="3556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1520" y="376704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22680" y="3610080"/>
            <a:ext cx="558720" cy="231120"/>
            <a:chOff x="2722680" y="3610080"/>
            <a:chExt cx="558720" cy="231120"/>
          </a:xfrm>
        </p:grpSpPr>
        <p:sp>
          <p:nvSpPr>
            <p:cNvPr id="48" name=""/>
            <p:cNvSpPr/>
            <p:nvPr/>
          </p:nvSpPr>
          <p:spPr>
            <a:xfrm>
              <a:off x="2722680" y="3654360"/>
              <a:ext cx="136440" cy="136440"/>
            </a:xfrm>
            <a:prstGeom prst="diamond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7840" y="37227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3240" y="3610080"/>
              <a:ext cx="30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 flipH="1" flipV="1">
            <a:off x="2314080" y="331920"/>
            <a:ext cx="1800" cy="40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71520" y="963720"/>
            <a:ext cx="108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0240" y="925560"/>
            <a:ext cx="9525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7000" y="906480"/>
            <a:ext cx="96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portunity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33680" y="925560"/>
            <a:ext cx="11667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14760" y="92556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08440" y="925560"/>
            <a:ext cx="11271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65760" y="92556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925560"/>
            <a:ext cx="177948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24760" y="925560"/>
            <a:ext cx="121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Business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71520" y="808200"/>
            <a:ext cx="657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70120" y="401760"/>
            <a:ext cx="21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14440" y="1380960"/>
            <a:ext cx="106200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y sc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siness Enqui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73560" y="1380960"/>
            <a:ext cx="129528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 opportunity and market nee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alterna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 risks and uncertain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k alignment with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06920" y="1380960"/>
            <a:ext cx="129528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best altern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engineering design crit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75280" y="1380960"/>
            <a:ext cx="12956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e sco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oject execution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ly and offtake agre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71520" y="2171880"/>
            <a:ext cx="6586560" cy="1385640"/>
            <a:chOff x="1271520" y="2171880"/>
            <a:chExt cx="6586560" cy="1385640"/>
          </a:xfrm>
        </p:grpSpPr>
        <p:sp>
          <p:nvSpPr>
            <p:cNvPr id="68" name=""/>
            <p:cNvSpPr/>
            <p:nvPr/>
          </p:nvSpPr>
          <p:spPr>
            <a:xfrm>
              <a:off x="2550960" y="220500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9000" y="2325600"/>
              <a:ext cx="12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-Feasi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68840" y="2440080"/>
              <a:ext cx="126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asi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08680" y="2554200"/>
              <a:ext cx="17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tailed Enginee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71520" y="2232000"/>
              <a:ext cx="104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gineering 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96960" y="2432160"/>
              <a:ext cx="881280" cy="712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79680" y="2550960"/>
              <a:ext cx="1274760" cy="716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57680" y="2670120"/>
              <a:ext cx="1230480" cy="716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89600" y="2790720"/>
              <a:ext cx="1797120" cy="716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1520" y="2171880"/>
              <a:ext cx="658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71520" y="3557520"/>
              <a:ext cx="656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11560" y="2943360"/>
              <a:ext cx="106200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liminary engineering proposa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pital estimate: &gt; +/-5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89400" y="2943360"/>
              <a:ext cx="124452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-feasibility stu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udy estimate +/-3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9760" y="2943360"/>
              <a:ext cx="124452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asibility stu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udget estimate +/-1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87880" y="2943360"/>
              <a:ext cx="16434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tailed engineering pack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rol estimate +/-1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936960" y="3610080"/>
            <a:ext cx="558720" cy="231120"/>
            <a:chOff x="3936960" y="3610080"/>
            <a:chExt cx="558720" cy="231120"/>
          </a:xfrm>
        </p:grpSpPr>
        <p:sp>
          <p:nvSpPr>
            <p:cNvPr id="84" name=""/>
            <p:cNvSpPr/>
            <p:nvPr/>
          </p:nvSpPr>
          <p:spPr>
            <a:xfrm>
              <a:off x="3936960" y="3654360"/>
              <a:ext cx="136440" cy="136440"/>
            </a:xfrm>
            <a:prstGeom prst="diamond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2120" y="37227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87520" y="3610080"/>
              <a:ext cx="30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156280" y="3610080"/>
            <a:ext cx="558720" cy="231120"/>
            <a:chOff x="5156280" y="3610080"/>
            <a:chExt cx="558720" cy="231120"/>
          </a:xfrm>
        </p:grpSpPr>
        <p:sp>
          <p:nvSpPr>
            <p:cNvPr id="88" name=""/>
            <p:cNvSpPr/>
            <p:nvPr/>
          </p:nvSpPr>
          <p:spPr>
            <a:xfrm>
              <a:off x="5156280" y="3654360"/>
              <a:ext cx="136440" cy="136440"/>
            </a:xfrm>
            <a:prstGeom prst="diamond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21440" y="37227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06840" y="3610080"/>
              <a:ext cx="30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683400" y="3610080"/>
            <a:ext cx="558720" cy="231120"/>
            <a:chOff x="6683400" y="3610080"/>
            <a:chExt cx="558720" cy="231120"/>
          </a:xfrm>
        </p:grpSpPr>
        <p:sp>
          <p:nvSpPr>
            <p:cNvPr id="92" name=""/>
            <p:cNvSpPr/>
            <p:nvPr/>
          </p:nvSpPr>
          <p:spPr>
            <a:xfrm>
              <a:off x="6683400" y="3654360"/>
              <a:ext cx="136440" cy="136440"/>
            </a:xfrm>
            <a:prstGeom prst="diamond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48560" y="37227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3960" y="3610080"/>
              <a:ext cx="30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17680" y="3824280"/>
            <a:ext cx="10620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tegic f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2800" y="3830760"/>
            <a:ext cx="136656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ght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iminary 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9640" y="3857760"/>
            <a:ext cx="135252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ght 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78440" y="3863880"/>
            <a:ext cx="192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 author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implementation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19240" y="387360"/>
            <a:ext cx="6885000" cy="5719680"/>
            <a:chOff x="219240" y="387360"/>
            <a:chExt cx="6885000" cy="5719680"/>
          </a:xfrm>
        </p:grpSpPr>
        <p:sp>
          <p:nvSpPr>
            <p:cNvPr id="100" name=""/>
            <p:cNvSpPr/>
            <p:nvPr/>
          </p:nvSpPr>
          <p:spPr>
            <a:xfrm>
              <a:off x="222120" y="2995560"/>
              <a:ext cx="898560" cy="3111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9240" y="388800"/>
              <a:ext cx="898200" cy="2443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01680" y="1262160"/>
              <a:ext cx="2578320" cy="1569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01680" y="2982960"/>
              <a:ext cx="2578320" cy="1433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01680" y="4470480"/>
              <a:ext cx="2578320" cy="777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01680" y="5302080"/>
              <a:ext cx="2578320" cy="804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73680" y="1252440"/>
              <a:ext cx="3124080" cy="1575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1680" y="387360"/>
              <a:ext cx="2578320" cy="795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-239760" y="144720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RECT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-340920" y="442692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IRECT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6560" y="641520"/>
              <a:ext cx="123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QUI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67280" y="1905120"/>
              <a:ext cx="161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76560" y="387360"/>
              <a:ext cx="3124440" cy="806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18120" y="463680"/>
              <a:ext cx="2454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jor Equi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lk Mat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ight &amp; Transpor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8120" y="1251000"/>
              <a:ext cx="23320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te Faciliti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te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v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ectri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ru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iss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7200" y="2986200"/>
              <a:ext cx="3124080" cy="14382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0120" y="3147840"/>
              <a:ext cx="2599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ailed Engineer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urement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truction Team Ca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21280" y="3187800"/>
              <a:ext cx="1622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GINEER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UREME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66560" y="4718160"/>
              <a:ext cx="157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WNER’S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71880" y="4470480"/>
              <a:ext cx="3124080" cy="785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18120" y="4591080"/>
              <a:ext cx="260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der of Magnitude Stud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ic Engin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67280" y="5562720"/>
              <a:ext cx="149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ING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9800" y="5313240"/>
              <a:ext cx="3124440" cy="785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18120" y="5553000"/>
              <a:ext cx="253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owa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604960" y="995400"/>
            <a:ext cx="4567320" cy="3435480"/>
            <a:chOff x="2604960" y="995400"/>
            <a:chExt cx="4567320" cy="3435480"/>
          </a:xfrm>
        </p:grpSpPr>
        <p:sp>
          <p:nvSpPr>
            <p:cNvPr id="125" name=""/>
            <p:cNvSpPr/>
            <p:nvPr/>
          </p:nvSpPr>
          <p:spPr>
            <a:xfrm>
              <a:off x="2604960" y="995400"/>
              <a:ext cx="4567320" cy="343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60600" y="1228680"/>
              <a:ext cx="3338640" cy="248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60600" y="1228680"/>
              <a:ext cx="3338640" cy="2489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16320" y="371808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16320" y="33037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16320" y="288756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16320" y="247320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16320" y="205920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6320" y="1643040"/>
              <a:ext cx="44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16320" y="122868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360600" y="37180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030560" y="37180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699080" y="37180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359320" y="3718080"/>
              <a:ext cx="32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030720" y="37180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699240" y="37180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94160" y="1643040"/>
              <a:ext cx="536400" cy="1327320"/>
            </a:xfrm>
            <a:custGeom>
              <a:avLst/>
              <a:gdLst/>
              <a:ahLst/>
              <a:rect l="l" t="t" r="r" b="b"/>
              <a:pathLst>
                <a:path w="310" h="826">
                  <a:moveTo>
                    <a:pt x="0" y="0"/>
                  </a:moveTo>
                  <a:lnTo>
                    <a:pt x="37" y="109"/>
                  </a:lnTo>
                  <a:lnTo>
                    <a:pt x="78" y="217"/>
                  </a:lnTo>
                  <a:lnTo>
                    <a:pt x="150" y="444"/>
                  </a:lnTo>
                  <a:lnTo>
                    <a:pt x="186" y="552"/>
                  </a:lnTo>
                  <a:lnTo>
                    <a:pt x="227" y="656"/>
                  </a:lnTo>
                  <a:lnTo>
                    <a:pt x="269" y="748"/>
                  </a:lnTo>
                  <a:lnTo>
                    <a:pt x="310" y="8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0560" y="2970360"/>
              <a:ext cx="668520" cy="539640"/>
            </a:xfrm>
            <a:custGeom>
              <a:avLst/>
              <a:gdLst/>
              <a:ahLst/>
              <a:rect l="l" t="t" r="r" b="b"/>
              <a:pathLst>
                <a:path w="387" h="335">
                  <a:moveTo>
                    <a:pt x="0" y="0"/>
                  </a:moveTo>
                  <a:lnTo>
                    <a:pt x="46" y="67"/>
                  </a:lnTo>
                  <a:lnTo>
                    <a:pt x="93" y="124"/>
                  </a:lnTo>
                  <a:lnTo>
                    <a:pt x="139" y="170"/>
                  </a:lnTo>
                  <a:lnTo>
                    <a:pt x="191" y="211"/>
                  </a:lnTo>
                  <a:lnTo>
                    <a:pt x="237" y="247"/>
                  </a:lnTo>
                  <a:lnTo>
                    <a:pt x="289" y="278"/>
                  </a:lnTo>
                  <a:lnTo>
                    <a:pt x="387" y="3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99080" y="3510000"/>
              <a:ext cx="660240" cy="133200"/>
            </a:xfrm>
            <a:custGeom>
              <a:avLst/>
              <a:gdLst/>
              <a:ahLst/>
              <a:rect l="l" t="t" r="r" b="b"/>
              <a:pathLst>
                <a:path w="382" h="83">
                  <a:moveTo>
                    <a:pt x="0" y="0"/>
                  </a:moveTo>
                  <a:lnTo>
                    <a:pt x="46" y="21"/>
                  </a:lnTo>
                  <a:lnTo>
                    <a:pt x="98" y="41"/>
                  </a:lnTo>
                  <a:lnTo>
                    <a:pt x="145" y="52"/>
                  </a:lnTo>
                  <a:lnTo>
                    <a:pt x="191" y="62"/>
                  </a:lnTo>
                  <a:lnTo>
                    <a:pt x="284" y="72"/>
                  </a:lnTo>
                  <a:lnTo>
                    <a:pt x="382" y="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59320" y="3643200"/>
              <a:ext cx="671400" cy="33480"/>
            </a:xfrm>
            <a:custGeom>
              <a:avLst/>
              <a:gdLst/>
              <a:ahLst/>
              <a:rect l="l" t="t" r="r" b="b"/>
              <a:pathLst>
                <a:path w="387" h="20">
                  <a:moveTo>
                    <a:pt x="0" y="0"/>
                  </a:moveTo>
                  <a:lnTo>
                    <a:pt x="98" y="10"/>
                  </a:lnTo>
                  <a:lnTo>
                    <a:pt x="191" y="15"/>
                  </a:lnTo>
                  <a:lnTo>
                    <a:pt x="289" y="15"/>
                  </a:lnTo>
                  <a:lnTo>
                    <a:pt x="387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82400" y="3652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82400" y="3237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2400" y="2822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2400" y="2406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82400" y="1992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82400" y="157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82400" y="1162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5320" y="383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58920" y="3832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28880" y="3832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89120" y="3832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57640" y="3832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7240" y="3832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13200" y="4049640"/>
              <a:ext cx="21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vel of accuracy (% plus or minu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697040" y="2720160"/>
              <a:ext cx="252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st of estimate as % of total project c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963800" y="576360"/>
            <a:ext cx="11161800" cy="3629520"/>
            <a:chOff x="1963800" y="576360"/>
            <a:chExt cx="11161800" cy="3629520"/>
          </a:xfrm>
        </p:grpSpPr>
        <p:sp>
          <p:nvSpPr>
            <p:cNvPr id="161" name=""/>
            <p:cNvSpPr/>
            <p:nvPr/>
          </p:nvSpPr>
          <p:spPr>
            <a:xfrm>
              <a:off x="1963800" y="576360"/>
              <a:ext cx="6027840" cy="339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1360" y="1790640"/>
              <a:ext cx="4926240" cy="17938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5920" y="1935000"/>
              <a:ext cx="0" cy="15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33920" y="194472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72320" y="2022480"/>
              <a:ext cx="0" cy="1446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10800000">
              <a:off x="2514960" y="3026520"/>
              <a:ext cx="10585080" cy="11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8" y="0"/>
                  </a:moveTo>
                  <a:arcTo wR="10800" hR="10800" stAng="-5397454" swAng="54036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8" y="0"/>
                  </a:moveTo>
                  <a:arcTo wR="10800" hR="10800" stAng="-5397454" swAng="5403681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0800000">
              <a:off x="2511720" y="644040"/>
              <a:ext cx="10613880" cy="22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6" y="0"/>
                  </a:moveTo>
                  <a:arcTo wR="10800" hR="10800" stAng="-5394866" swAng="53792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6" y="0"/>
                  </a:moveTo>
                  <a:arcTo wR="10800" hR="10800" stAng="-5394866" swAng="5379263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3160" y="1739880"/>
              <a:ext cx="0" cy="19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44840" y="1774800"/>
              <a:ext cx="62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70320" y="2225520"/>
              <a:ext cx="614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67400" y="2541600"/>
              <a:ext cx="60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35600" y="2706840"/>
              <a:ext cx="71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92280" y="3533760"/>
              <a:ext cx="50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78240" y="3276720"/>
              <a:ext cx="50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78200" y="3146400"/>
              <a:ext cx="50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53240" y="3076560"/>
              <a:ext cx="50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97120" y="3435480"/>
              <a:ext cx="23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er limit of accuracy estim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36800" y="2070000"/>
              <a:ext cx="220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per limit of accuracy estim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1554840" y="2643480"/>
              <a:ext cx="144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fidence lim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04960" y="2746440"/>
              <a:ext cx="188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rrent Estim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42280" y="2720880"/>
              <a:ext cx="3794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14600" y="297324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490840" y="873000"/>
              <a:ext cx="5209920" cy="657360"/>
              <a:chOff x="2490840" y="873000"/>
              <a:chExt cx="5209920" cy="657360"/>
            </a:xfrm>
          </p:grpSpPr>
          <p:sp>
            <p:nvSpPr>
              <p:cNvPr id="184" name=""/>
              <p:cNvSpPr/>
              <p:nvPr/>
            </p:nvSpPr>
            <p:spPr>
              <a:xfrm>
                <a:off x="2544840" y="873000"/>
                <a:ext cx="81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ncep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22520" y="993600"/>
                <a:ext cx="126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e-Feasibil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62360" y="1108080"/>
                <a:ext cx="12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easibil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02200" y="1222200"/>
                <a:ext cx="1798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tailed Enginee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90840" y="1100160"/>
                <a:ext cx="880920" cy="7128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73200" y="1218960"/>
                <a:ext cx="1274760" cy="7164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651200" y="1338120"/>
                <a:ext cx="1230480" cy="7128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83120" y="1458720"/>
                <a:ext cx="1797120" cy="7164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26880" y="1251000"/>
            <a:ext cx="7618680" cy="5441760"/>
            <a:chOff x="326880" y="1251000"/>
            <a:chExt cx="7618680" cy="5441760"/>
          </a:xfrm>
        </p:grpSpPr>
        <p:sp>
          <p:nvSpPr>
            <p:cNvPr id="193" name=""/>
            <p:cNvSpPr/>
            <p:nvPr/>
          </p:nvSpPr>
          <p:spPr>
            <a:xfrm>
              <a:off x="4813200" y="1257480"/>
              <a:ext cx="3124440" cy="1493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38120" y="1258920"/>
              <a:ext cx="696960" cy="33638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7880" y="3419640"/>
              <a:ext cx="2442960" cy="1209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16080" y="2827440"/>
              <a:ext cx="2443320" cy="517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17880" y="1258920"/>
              <a:ext cx="2442960" cy="1493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19680" y="2822400"/>
              <a:ext cx="3124080" cy="520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9680" y="3419640"/>
              <a:ext cx="3124080" cy="1209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1349280"/>
              <a:ext cx="2716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w Materia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Lab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v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t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intenance and Repai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l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cence Fees &amp; Royal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6880" y="1251000"/>
              <a:ext cx="928800" cy="5441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38120" y="4740120"/>
              <a:ext cx="696960" cy="1952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16080" y="5735520"/>
              <a:ext cx="2443320" cy="957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16080" y="4737240"/>
              <a:ext cx="2443320" cy="901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386640" y="277272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ING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792720" y="5518440"/>
              <a:ext cx="178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NERAL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0680" y="1901880"/>
              <a:ext cx="223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 PROD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1080" y="3594240"/>
              <a:ext cx="24746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fety, Health and Environ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ckag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e Depart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intenance and Worksho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92480" y="50306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ISTR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90680" y="5954760"/>
              <a:ext cx="209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LES AND DISTRIBU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1120" y="4738680"/>
              <a:ext cx="3124440" cy="901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52960" y="4905360"/>
              <a:ext cx="284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ment Sal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nistrative Wa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f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16440" y="5735520"/>
              <a:ext cx="3124080" cy="955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52960" y="5916600"/>
              <a:ext cx="281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 and Sup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ipp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92120" y="293364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91400" y="3836880"/>
              <a:ext cx="159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T OVERH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52960" y="2873520"/>
              <a:ext cx="2130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r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-575280" y="3802680"/>
              <a:ext cx="27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OPERATING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1:20:12Z</dcterms:created>
  <dc:creator>frank crundwell</dc:creator>
  <dc:description/>
  <dc:language>en-US</dc:language>
  <cp:lastModifiedBy>frank crundwell</cp:lastModifiedBy>
  <dcterms:modified xsi:type="dcterms:W3CDTF">2007-08-16T16:38:18Z</dcterms:modified>
  <cp:revision>33</cp:revision>
  <dc:subject/>
  <dc:title>PowerPoint Presentation</dc:title>
</cp:coreProperties>
</file>